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F9D2-A23F-4337-B737-5FC3A4635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A02E-6CB8-4767-A564-FB6FA18EB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6CFB-14D5-47E3-A655-4B1C6C79C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9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A9B6-2CD5-425C-8F18-D10CC768D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9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8303-BEFD-4311-BFA8-41A104CA5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95DA-5C40-49E2-9935-9B84D7C93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81000" y="43560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3462-8EEA-41C4-BE40-1A567DFA3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484280" y="378000"/>
            <a:ext cx="3816360" cy="2862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49360" y="3419280"/>
            <a:ext cx="568800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BCB2-F366-49F5-8B2B-6DC6F9ABB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9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102F-208D-4E4F-9F30-79B6DC1A5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2E65-A595-4239-B3F6-C213CAD5E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41360" y="324000"/>
            <a:ext cx="4087800" cy="30654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07920" y="3563640"/>
            <a:ext cx="50292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9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337F-E960-44F2-9DD7-BCA2F273D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667-86A2-43E2-9186-5828F500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10D-15D0-437F-8F5C-0D76BACF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79D-7F93-437F-AC5A-9476490B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DDE-E64A-437D-BBEE-901854F2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0F6-96B4-40F4-AB0F-D8E06BA4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E89-424A-477A-83CA-BE339C7B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772-31A7-4A9B-AFFF-E241C768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55A-7DEB-42EB-90C6-EA68DF66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A3C-22BD-4AD9-8135-62D06291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9FC-A85D-47F8-9F1C-F1186490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C79-505E-4BAF-92F3-E6552C06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059B-6137-4A4D-987E-E8ECBE98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20F8-868E-4EAD-BD19-C8DFF09D5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735280" y="1484280"/>
            <a:ext cx="6408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 POLNET, Universitat Autònoma de Barcelon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ultados preliminares de la encuesta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articipación política 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979640" y="1557360"/>
            <a:ext cx="71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quipo POL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niversitat Autònoma de Barcel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3120" y="285840"/>
            <a:ext cx="824688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9933"/>
                </a:solidFill>
                <a:latin typeface="Arial"/>
              </a:rPr>
              <a:t>Contenidos del estudio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413000"/>
            <a:ext cx="6318360" cy="27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umo de 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tudes políticas, opiniones y valoraciones sobre cuestiones polí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o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o político de Inter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ipación política off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ables sociodemográf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3120" y="285840"/>
            <a:ext cx="824688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9933"/>
                </a:solidFill>
                <a:latin typeface="Arial"/>
              </a:rPr>
              <a:t>Características técnicas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413000"/>
            <a:ext cx="8209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716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ntrevistas person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toda España a mayores de 18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echa de realización del trabajo de campo: 11 de octubre a 5 de noviembre d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luye dos submuestras: una para la población andaluza (739 casos), otra de jóvenes de 18 a 44 años (1500 cas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estreo polietápico, estratificado por conglomerados. Selección de las unidades primarias de muestreo de forma aleatoria proporcional y de los individuos por rutas aleatorias y cuotas de sexo y e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ror muestral: Para un nivel de confianza del 95,5% (dos sigmas), y P = Q, el error real es de ±1,64 % para el conjunto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3120" y="285840"/>
            <a:ext cx="824688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9933"/>
                </a:solidFill>
                <a:latin typeface="Arial"/>
              </a:rPr>
              <a:t>Usos políticos de Internet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2560" y="1413000"/>
          <a:ext cx="3673440" cy="200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>
                    <a:alphaModFix amt="0"/>
                  </a:blip>
                  <a:stretch/>
                </p:blipFill>
                <p:spPr>
                  <a:xfrm>
                    <a:off x="682560" y="1413000"/>
                    <a:ext cx="367344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23 Gráfico" descr=""/>
          <p:cNvPicPr/>
          <p:nvPr/>
        </p:nvPicPr>
        <p:blipFill>
          <a:blip r:embed="rId4"/>
          <a:stretch/>
        </p:blipFill>
        <p:spPr>
          <a:xfrm>
            <a:off x="5002200" y="1197000"/>
            <a:ext cx="3014640" cy="2441520"/>
          </a:xfrm>
          <a:prstGeom prst="rect">
            <a:avLst/>
          </a:prstGeom>
          <a:ln w="0">
            <a:noFill/>
          </a:ln>
        </p:spPr>
      </p:pic>
      <p:pic>
        <p:nvPicPr>
          <p:cNvPr id="57" name="21 Gráfico" descr=""/>
          <p:cNvPicPr/>
          <p:nvPr/>
        </p:nvPicPr>
        <p:blipFill>
          <a:blip r:embed="rId5"/>
          <a:stretch/>
        </p:blipFill>
        <p:spPr>
          <a:xfrm>
            <a:off x="2124000" y="3716280"/>
            <a:ext cx="4606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3120" y="285840"/>
            <a:ext cx="824688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9933"/>
                </a:solidFill>
                <a:latin typeface="Arial"/>
              </a:rPr>
              <a:t>Participación política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71640" y="3284640"/>
          <a:ext cx="7162560" cy="297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3284640"/>
                    <a:ext cx="71625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20 Gráfico" descr=""/>
          <p:cNvPicPr/>
          <p:nvPr/>
        </p:nvPicPr>
        <p:blipFill>
          <a:blip r:embed="rId4"/>
          <a:stretch/>
        </p:blipFill>
        <p:spPr>
          <a:xfrm>
            <a:off x="1042920" y="1125360"/>
            <a:ext cx="70581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84360" y="4221000"/>
          <a:ext cx="2303280" cy="1434960"/>
        </p:xfrm>
        <a:graphic>
          <a:graphicData uri="http://schemas.openxmlformats.org/drawingml/2006/table">
            <a:tbl>
              <a:tblPr/>
              <a:tblGrid>
                <a:gridCol w="2303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 w="12240">
                      <a:solidFill>
                        <a:srgbClr val="99cc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unión polí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f81bd"/>
                          </a:solidFill>
                          <a:latin typeface="Arial"/>
                          <a:ea typeface="Arial"/>
                        </a:rPr>
                        <a:t>E-part: contacto po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f81bd"/>
                          </a:solidFill>
                          <a:latin typeface="Arial"/>
                          <a:ea typeface="Arial"/>
                        </a:rPr>
                        <a:t>E-part: contacto adm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 w="1224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9933"/>
                </a:solidFill>
                <a:latin typeface="Arial"/>
              </a:rPr>
              <a:t>Dimensiones de la participación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443640" y="1268280"/>
          <a:ext cx="2016000" cy="136872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i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 w="12240">
                      <a:solidFill>
                        <a:srgbClr val="99cc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ic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ción din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 w="1224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227640" y="2852640"/>
          <a:ext cx="2592360" cy="267984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ociación: part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 w="12240">
                      <a:solidFill>
                        <a:srgbClr val="99cc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ociación: sindic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ociación: profes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ociación: religi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ociación: depor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ociación: NN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ociación: juve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ociación: ot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 w="1224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39640" y="1268280"/>
          <a:ext cx="2592360" cy="267984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f81bd"/>
                          </a:solidFill>
                          <a:latin typeface="Arial"/>
                          <a:ea typeface="Arial"/>
                        </a:rPr>
                        <a:t>V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 w="12240">
                      <a:solidFill>
                        <a:srgbClr val="99cc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cias en radio o t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ros programas po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umo de pre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bla sobre polí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nta influir opin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f81bd"/>
                          </a:solidFill>
                          <a:latin typeface="Arial"/>
                          <a:ea typeface="Arial"/>
                        </a:rPr>
                        <a:t>Info pol en Inter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4f81bd"/>
                          </a:solidFill>
                          <a:latin typeface="Arial"/>
                          <a:ea typeface="Arial"/>
                        </a:rPr>
                        <a:t>Visita web part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 w="1224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492360" y="1268280"/>
          <a:ext cx="2449440" cy="2789280"/>
        </p:xfrm>
        <a:graphic>
          <a:graphicData uri="http://schemas.openxmlformats.org/drawingml/2006/table">
            <a:tbl>
              <a:tblPr/>
              <a:tblGrid>
                <a:gridCol w="2449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ita web part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 w="12240">
                      <a:solidFill>
                        <a:srgbClr val="99cc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scrito a e-boletí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part: contacto po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part: contacto adm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part: cont. asoci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part: don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part: fo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part: peti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99cc00"/>
                      </a:solidFill>
                    </a:lnL>
                    <a:lnR w="12240">
                      <a:solidFill>
                        <a:srgbClr val="99cc00"/>
                      </a:solidFill>
                    </a:lnR>
                    <a:lnT>
                      <a:noFill/>
                    </a:lnT>
                    <a:lnB w="1224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3120" y="285840"/>
            <a:ext cx="824688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33"/>
                </a:solidFill>
                <a:latin typeface="Arial"/>
              </a:rPr>
              <a:t>Factores explicativos de la participación por Internet</a:t>
            </a:r>
            <a:endParaRPr b="0" lang="en-US" sz="2400" spc="-1" strike="noStrike">
              <a:solidFill>
                <a:srgbClr val="1f497d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052640"/>
          <a:ext cx="4032360" cy="4976640"/>
        </p:xfrm>
        <a:graphic>
          <a:graphicData uri="http://schemas.openxmlformats.org/drawingml/2006/table">
            <a:tbl>
              <a:tblPr/>
              <a:tblGrid>
                <a:gridCol w="1995840"/>
                <a:gridCol w="1009440"/>
                <a:gridCol w="1027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d. Er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j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7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07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 política TV ra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e prensa off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0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e prensa on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és por la polí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531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ximidad partid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79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cuencia u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38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bilidades Inte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77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206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eudo R</a:t>
                      </a:r>
                      <a:r>
                        <a:rPr b="0" lang="es-E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p&lt;0,1  ** p&lt;0,05  *** p&lt;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3120" y="285840"/>
            <a:ext cx="824688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9933"/>
                </a:solidFill>
                <a:latin typeface="Arial"/>
              </a:rPr>
              <a:t>Movilización como predictor de asistencia a manifestaciones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979640" y="1125360"/>
          <a:ext cx="4897440" cy="4698720"/>
        </p:xfrm>
        <a:graphic>
          <a:graphicData uri="http://schemas.openxmlformats.org/drawingml/2006/table">
            <a:tbl>
              <a:tblPr/>
              <a:tblGrid>
                <a:gridCol w="2668680"/>
                <a:gridCol w="1149120"/>
                <a:gridCol w="1079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d. Er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vilización cara a ca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14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vilización por e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771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vilización por 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44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ción en TV y ra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ción en pren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és por la polí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458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ximidad part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cació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j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cia mismo 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,792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eudo 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976040" y="58762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p&lt;0,05     **p&lt;0,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3120" y="285840"/>
            <a:ext cx="824688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9933"/>
                </a:solidFill>
                <a:latin typeface="Arial"/>
              </a:rPr>
              <a:t>Impacto de las habilidades y recursos sobre la participación política</a:t>
            </a:r>
            <a:endParaRPr b="0" lang="en-US" sz="28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9361440" cy="5170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2205000"/>
            <a:ext cx="8569440" cy="2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284640"/>
            <a:ext cx="8569440" cy="2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3573360"/>
            <a:ext cx="8569440" cy="2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3:43:24Z</dcterms:created>
  <dc:creator>sbau</dc:creator>
  <dc:description/>
  <dc:language>en-US</dc:language>
  <cp:lastModifiedBy> Marta Luque Fernández</cp:lastModifiedBy>
  <dcterms:modified xsi:type="dcterms:W3CDTF">2008-06-06T18:24:20Z</dcterms:modified>
  <cp:revision>128</cp:revision>
  <dc:subject/>
  <dc:title>Sin título de diapositiva</dc:title>
</cp:coreProperties>
</file>